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BF8-1896-4066-A0BD-9C9DE2EA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F34-AF72-44E4-8B53-2D2350D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0A8-5D3C-40FA-8957-13982E3B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5DB-A931-48E1-BEE1-78CB1D4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5B8-ED82-405D-823B-B22FDE1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357-916E-46AD-B28D-629F065B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A49-0636-4822-A21C-CD36A8C9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519-442E-4878-9D15-D58997D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14F-0AFE-4896-929C-35DFD62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101-BA99-4DE2-AF55-9B1B6F7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7EF-6CA3-4B8A-8B6B-84F31A0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570-7FED-4DB2-B4E4-118DFF3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CC20-408B-4D1D-BDC1-42A46FE6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590920"/>
            <a:ext cx="4648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eeds Dispersed By W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umbleweedsnowman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532320" cy="409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43200" y="5335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Tumbleweed Snow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ttonseed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301788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4572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otton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liderseed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570120" cy="344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685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Glider S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8380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Parachut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rachuteseed3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1244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arachuteseed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16404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8380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Parachut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pinnerseeds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838760" cy="324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7621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Spinner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hirybirdseed2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5342040" cy="348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Whirlyb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hirybirdseed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5715000" cy="3767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9144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Whirlybi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548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Tumblew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14239" t="26161" r="51566" b="12964"/>
          <a:stretch/>
        </p:blipFill>
        <p:spPr>
          <a:xfrm>
            <a:off x="2362320" y="121932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8:05:35Z</dcterms:created>
  <dc:creator>Plano ISD</dc:creator>
  <dc:description/>
  <dc:language>en-US</dc:language>
  <cp:lastModifiedBy>Plano ISD</cp:lastModifiedBy>
  <dcterms:modified xsi:type="dcterms:W3CDTF">2003-05-05T13:14:40Z</dcterms:modified>
  <cp:revision>2</cp:revision>
  <dc:subject/>
  <dc:title>PowerPoint Presentation</dc:title>
</cp:coreProperties>
</file>